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5cad"/>
              </a:solidFill>
              <a:latin typeface="Arial"/>
            </a:endParaRPr>
          </a:p>
        </p:txBody>
      </p:sp>
      <p:sp>
        <p:nvSpPr>
          <p:cNvPr id="89"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1720" y="733320"/>
            <a:ext cx="4884840" cy="36655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move the slide</a:t>
            </a:r>
            <a:endParaRPr b="0" lang="en-US" sz="3000" spc="-1" strike="noStrike">
              <a:solidFill>
                <a:srgbClr val="0066cc"/>
              </a:solidFill>
              <a:latin typeface="Times New Roman"/>
            </a:endParaRPr>
          </a:p>
        </p:txBody>
      </p:sp>
      <p:sp>
        <p:nvSpPr>
          <p:cNvPr id="92"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64BD6-3A67-4AB7-8344-D352C306A1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8B2D1-1A79-4B5C-ACAE-D7B6F4DF1C92}"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
        <p:nvSpPr>
          <p:cNvPr id="153" name="PlaceHolder 1"/>
          <p:cNvSpPr>
            <a:spLocks noGrp="1"/>
          </p:cNvSpPr>
          <p:nvPr>
            <p:ph type="sldImg"/>
          </p:nvPr>
        </p:nvSpPr>
        <p:spPr>
          <a:xfrm>
            <a:off x="892080" y="733320"/>
            <a:ext cx="4884840" cy="3665520"/>
          </a:xfrm>
          <a:prstGeom prst="rect">
            <a:avLst/>
          </a:prstGeom>
          <a:ln w="0">
            <a:noFill/>
          </a:ln>
        </p:spPr>
      </p:sp>
      <p:sp>
        <p:nvSpPr>
          <p:cNvPr id="15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92080" y="733320"/>
            <a:ext cx="4884840" cy="3665520"/>
          </a:xfrm>
          <a:prstGeom prst="rect">
            <a:avLst/>
          </a:prstGeom>
          <a:ln w="0">
            <a:noFill/>
          </a:ln>
        </p:spPr>
      </p:sp>
      <p:sp>
        <p:nvSpPr>
          <p:cNvPr id="180"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1"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49397-0E32-495C-8ADD-4678B9ED6A4B}"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92080" y="733320"/>
            <a:ext cx="4884840" cy="3665520"/>
          </a:xfrm>
          <a:prstGeom prst="rect">
            <a:avLst/>
          </a:prstGeom>
          <a:ln w="0">
            <a:noFill/>
          </a:ln>
        </p:spPr>
      </p:sp>
      <p:sp>
        <p:nvSpPr>
          <p:cNvPr id="183"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5cad"/>
              </a:solidFill>
              <a:latin typeface="Arial"/>
              <a:ea typeface="Arial"/>
            </a:endParaRPr>
          </a:p>
        </p:txBody>
      </p:sp>
      <p:sp>
        <p:nvSpPr>
          <p:cNvPr id="184"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1C68F-13E1-48FF-B90F-1A5A64B7DE8B}"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92080" y="733320"/>
            <a:ext cx="4884840" cy="3665520"/>
          </a:xfrm>
          <a:prstGeom prst="rect">
            <a:avLst/>
          </a:prstGeom>
          <a:ln w="0">
            <a:noFill/>
          </a:ln>
        </p:spPr>
      </p:sp>
      <p:sp>
        <p:nvSpPr>
          <p:cNvPr id="18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1F1AF-4725-4C89-9E27-AE1094667750}"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892080" y="733320"/>
            <a:ext cx="4884840" cy="3665520"/>
          </a:xfrm>
          <a:prstGeom prst="rect">
            <a:avLst/>
          </a:prstGeom>
          <a:ln w="0">
            <a:noFill/>
          </a:ln>
        </p:spPr>
      </p:sp>
      <p:sp>
        <p:nvSpPr>
          <p:cNvPr id="15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5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B8387-F446-4771-9F2B-57AE8C00DAC6}"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892080" y="733320"/>
            <a:ext cx="4884840" cy="3665520"/>
          </a:xfrm>
          <a:prstGeom prst="rect">
            <a:avLst/>
          </a:prstGeom>
          <a:ln w="0">
            <a:noFill/>
          </a:ln>
        </p:spPr>
      </p:sp>
      <p:sp>
        <p:nvSpPr>
          <p:cNvPr id="159"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0"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AB08A-F601-4CA0-933B-0D419565E189}"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92080" y="733320"/>
            <a:ext cx="4884840" cy="3665520"/>
          </a:xfrm>
          <a:prstGeom prst="rect">
            <a:avLst/>
          </a:prstGeom>
          <a:ln w="0">
            <a:noFill/>
          </a:ln>
        </p:spPr>
      </p:sp>
      <p:sp>
        <p:nvSpPr>
          <p:cNvPr id="162"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C84E1-07E9-40A3-8209-C682B367B2D9}"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892080" y="733320"/>
            <a:ext cx="4884840" cy="3665520"/>
          </a:xfrm>
          <a:prstGeom prst="rect">
            <a:avLst/>
          </a:prstGeom>
          <a:ln w="0">
            <a:noFill/>
          </a:ln>
        </p:spPr>
      </p:sp>
      <p:sp>
        <p:nvSpPr>
          <p:cNvPr id="165"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6"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771E6-2102-4388-9F27-6416DFF80288}"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92080" y="733320"/>
            <a:ext cx="4884840" cy="3665520"/>
          </a:xfrm>
          <a:prstGeom prst="rect">
            <a:avLst/>
          </a:prstGeom>
          <a:ln w="0">
            <a:noFill/>
          </a:ln>
        </p:spPr>
      </p:sp>
      <p:sp>
        <p:nvSpPr>
          <p:cNvPr id="168"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45BA9-54F5-4BF7-9FD6-A773970C62CE}"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2080" y="733320"/>
            <a:ext cx="4884840" cy="3665520"/>
          </a:xfrm>
          <a:prstGeom prst="rect">
            <a:avLst/>
          </a:prstGeom>
          <a:ln w="0">
            <a:noFill/>
          </a:ln>
        </p:spPr>
      </p:sp>
      <p:sp>
        <p:nvSpPr>
          <p:cNvPr id="171"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72"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94F93-A9D5-4F0C-8F1A-32AEE3D56143}"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92080" y="733320"/>
            <a:ext cx="4884840" cy="3665520"/>
          </a:xfrm>
          <a:prstGeom prst="rect">
            <a:avLst/>
          </a:prstGeom>
          <a:ln w="0">
            <a:noFill/>
          </a:ln>
        </p:spPr>
      </p:sp>
      <p:sp>
        <p:nvSpPr>
          <p:cNvPr id="17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75"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8F105-F85A-4285-A745-45C2A52B261D}"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92080" y="733320"/>
            <a:ext cx="4884840" cy="3665520"/>
          </a:xfrm>
          <a:prstGeom prst="rect">
            <a:avLst/>
          </a:prstGeom>
          <a:ln w="0">
            <a:noFill/>
          </a:ln>
        </p:spPr>
      </p:sp>
      <p:sp>
        <p:nvSpPr>
          <p:cNvPr id="177"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8"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53E4F-910E-428B-8BC5-1D464C90538F}"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331E0-A473-4473-89E3-2C68576CD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B2B06-306D-441B-85B4-684074888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72E80-243C-4BBB-AE91-97DC2EC4C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E3E0F-49CB-45C1-8200-7176C9681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71662F-2CCF-4F16-8416-1CB32C0915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801DF6-FC8D-4354-8CCF-6F1E027F8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8E640-2D5A-4B8F-AFAC-14C724845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EE332-6A7E-4DBD-A3A2-3F69C583A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9F500-538F-4178-B18B-14B1C82C8B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42DA5-5D42-430C-BCC9-D5B02109A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519E6-F8D1-4495-BAB0-FAE36556C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DE7D0-43C8-4C10-9D60-78413ABD8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F5143-6377-4650-A69A-B444DA6D0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8000F-7F97-4D49-B7DB-53652CA56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92E9E8-365D-46AC-859A-DA6F292B5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C07362-E608-44A2-99AD-E38A16FEC3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0919B7-5EB0-47A4-AAE3-CFE8FE91F0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762EB-FCEC-4DBF-B766-310F03895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C75A6-0662-4FA9-B701-BDE107D02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39B93-55B2-4EDE-AE11-16A9773D7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ADCB0-A10D-4596-A5B5-D7B665A4B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F6DFC-E87D-4BFB-8FD1-0052F8207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66C9C-8E3A-4E75-A355-430723356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49DB4-A186-4224-A129-A6D7268AF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E74D4-7995-4E09-9A7B-3149730A125B}"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
        <p:nvSpPr>
          <p:cNvPr id="4" name="Line 8"/>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5" name="Line 9"/>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6" name="Picture 11" descr="EBF FINAL"/>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6"/>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45" name="Line 7"/>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46" name="Picture 8" descr="EBF FINAL"/>
          <p:cNvPicPr/>
          <p:nvPr/>
        </p:nvPicPr>
        <p:blipFill>
          <a:blip r:embed="rId2"/>
          <a:stretch/>
        </p:blipFill>
        <p:spPr>
          <a:xfrm>
            <a:off x="0" y="189000"/>
            <a:ext cx="2943360" cy="1305000"/>
          </a:xfrm>
          <a:prstGeom prst="rect">
            <a:avLst/>
          </a:prstGeom>
          <a:ln w="0">
            <a:noFill/>
          </a:ln>
        </p:spPr>
      </p:pic>
      <p:sp>
        <p:nvSpPr>
          <p:cNvPr id="4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48" name="PlaceHolder 2"/>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E8582-25F1-4E34-BDCA-5A2A777C692B}"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14240" y="2214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cc"/>
                </a:solidFill>
                <a:latin typeface="Arial"/>
                <a:ea typeface="Arial"/>
              </a:rPr>
              <a:t>VAT and Financial Services</a:t>
            </a:r>
            <a:endParaRPr b="0" lang="en-US" sz="3200" spc="-1" strike="noStrike">
              <a:solidFill>
                <a:srgbClr val="0066cc"/>
              </a:solidFill>
              <a:latin typeface="Times New Roman"/>
            </a:endParaRPr>
          </a:p>
        </p:txBody>
      </p:sp>
      <p:sp>
        <p:nvSpPr>
          <p:cNvPr id="96" name="PlaceHolder 2"/>
          <p:cNvSpPr>
            <a:spLocks noGrp="1"/>
          </p:cNvSpPr>
          <p:nvPr>
            <p:ph type="subTitle"/>
          </p:nvPr>
        </p:nvSpPr>
        <p:spPr>
          <a:xfrm>
            <a:off x="1371600" y="3214800"/>
            <a:ext cx="6400800" cy="10000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cc"/>
                </a:solidFill>
                <a:latin typeface="Arial"/>
                <a:ea typeface="Arial"/>
              </a:rPr>
              <a:t>Study on Option to Tax</a:t>
            </a:r>
            <a:endParaRPr b="0" lang="en-US" sz="28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cc"/>
                </a:solidFill>
                <a:latin typeface="Arial"/>
                <a:ea typeface="Arial"/>
              </a:rPr>
              <a:t>Brussels, 3 </a:t>
            </a:r>
            <a:r>
              <a:rPr b="0" lang="en-GB" sz="1400" spc="-1" strike="noStrike">
                <a:solidFill>
                  <a:srgbClr val="0066cc"/>
                </a:solidFill>
                <a:latin typeface="Arial"/>
                <a:ea typeface="Arial"/>
              </a:rPr>
              <a:t>December</a:t>
            </a:r>
            <a:r>
              <a:rPr b="0" lang="fr-FR" sz="1400" spc="-1" strike="noStrike">
                <a:solidFill>
                  <a:srgbClr val="0066cc"/>
                </a:solidFill>
                <a:latin typeface="Arial"/>
                <a:ea typeface="Arial"/>
              </a:rPr>
              <a:t> 2009</a:t>
            </a:r>
            <a:endParaRPr b="0" lang="en-US" sz="1400" spc="-1" strike="noStrike">
              <a:solidFill>
                <a:srgbClr val="0066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onsiderations used for the research</a:t>
            </a:r>
            <a:endParaRPr b="0" lang="en-US" sz="2800" spc="-1" strike="noStrike">
              <a:solidFill>
                <a:srgbClr val="0066cc"/>
              </a:solidFill>
              <a:latin typeface="Times New Roman"/>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deally the option should allow flexibility. </a:t>
            </a:r>
            <a:r>
              <a:rPr b="0" lang="en-GB" sz="1800" spc="-1" strike="noStrike">
                <a:solidFill>
                  <a:srgbClr val="0066cc"/>
                </a:solidFill>
                <a:latin typeface="Arial"/>
                <a:ea typeface="Arial"/>
              </a:rPr>
              <a:t>Rules should be both practical and feasibl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hosen method of taxation should enable transformation of the option into daily banking practic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t should be possible to calculate the margin on a transaction-by-transaction bas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tax base must be conceptually sound (especially for B2C)</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argin revenues are a consideration for services rendered to borrowers </a:t>
            </a:r>
            <a:r>
              <a:rPr b="0" lang="en-US" sz="1800" spc="-1" strike="noStrike" u="sng">
                <a:solidFill>
                  <a:srgbClr val="0066cc"/>
                </a:solidFill>
                <a:uFillTx/>
                <a:latin typeface="Arial"/>
                <a:ea typeface="Arial"/>
              </a:rPr>
              <a:t>and</a:t>
            </a:r>
            <a:r>
              <a:rPr b="0" lang="en-US" sz="1800" spc="-1" strike="noStrike">
                <a:solidFill>
                  <a:srgbClr val="0066cc"/>
                </a:solidFill>
                <a:latin typeface="Arial"/>
                <a:ea typeface="Arial"/>
              </a:rPr>
              <a:t> depositors</a:t>
            </a:r>
            <a:endParaRPr b="0" lang="en-US" sz="1800" spc="-1" strike="noStrike">
              <a:solidFill>
                <a:srgbClr val="0066cc"/>
              </a:solidFill>
              <a:latin typeface="Times New Roman"/>
            </a:endParaRPr>
          </a:p>
          <a:p>
            <a:pPr marL="343080" indent="-3430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343080" indent="-343080">
              <a:lnSpc>
                <a:spcPct val="10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3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8D5AA-4879-45A1-8609-17A5EEE03A14}"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4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Assessment of alternative variants</a:t>
            </a:r>
            <a:endParaRPr b="0" lang="en-US" sz="2800" spc="-1" strike="noStrike">
              <a:solidFill>
                <a:srgbClr val="0066cc"/>
              </a:solidFill>
              <a:latin typeface="Times New Roman"/>
            </a:endParaRPr>
          </a:p>
        </p:txBody>
      </p:sp>
      <p:graphicFrame>
        <p:nvGraphicFramePr>
          <p:cNvPr id="143" name=""/>
          <p:cNvGraphicFramePr/>
          <p:nvPr/>
        </p:nvGraphicFramePr>
        <p:xfrm>
          <a:off x="457200" y="1557360"/>
          <a:ext cx="8362800" cy="4822920"/>
        </p:xfrm>
        <a:graphic>
          <a:graphicData uri="http://schemas.openxmlformats.org/drawingml/2006/table">
            <a:tbl>
              <a:tblPr/>
              <a:tblGrid>
                <a:gridCol w="828720"/>
                <a:gridCol w="3000240"/>
                <a:gridCol w="45338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n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sessment</a:t>
                      </a:r>
                      <a:endParaRPr b="0" lang="en-US" sz="18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r h="65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onl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Easiest to follow  for compliance</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It will have limited impact on tax cascading</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1067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B</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determination of tax base for individual transaction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Broader coverage than variant A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ex to determine tax base for individual transactions</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 during the transition </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888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C</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optional determination of  margin on portfolio basi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Determination of explicit fee and invoicing should be easy</a:t>
                      </a:r>
                      <a:r>
                        <a:rPr b="0" lang="en-US" sz="1600" spc="-1" strike="noStrike">
                          <a:solidFill>
                            <a:srgbClr val="005cad"/>
                          </a:solidFill>
                          <a:latin typeface="Arial"/>
                        </a:rPr>
                        <a:t>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109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Similar to C with B2B margins zero-rat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Zero rating only for B2B with </a:t>
                      </a:r>
                      <a:r>
                        <a:rPr b="0" lang="en-US" sz="1600" spc="-1" strike="noStrike" u="sng">
                          <a:solidFill>
                            <a:srgbClr val="005cad"/>
                          </a:solidFill>
                          <a:uFillTx/>
                          <a:latin typeface="Arial"/>
                        </a:rPr>
                        <a:t>full input VAT recovery</a:t>
                      </a:r>
                      <a:r>
                        <a:rPr b="0" lang="en-US" sz="1600" spc="-1" strike="noStrike">
                          <a:solidFill>
                            <a:srgbClr val="005cad"/>
                          </a:solidFill>
                          <a:latin typeface="Arial"/>
                        </a:rPr>
                        <a:t> right</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Most appealing system for compliance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No need to reveal gross profi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4232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om both economic (tax neutrality) and administrative perspectives, </a:t>
                      </a:r>
                      <a:endParaRPr b="0" lang="en-US" sz="1600" spc="-1" strike="noStrike">
                        <a:solidFill>
                          <a:srgbClr val="005ca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the Ernst &amp; Young study notes </a:t>
                      </a:r>
                      <a:r>
                        <a:rPr b="1" lang="en-GB" sz="1600" spc="-1" strike="noStrike" u="sng">
                          <a:solidFill>
                            <a:srgbClr val="005cad"/>
                          </a:solidFill>
                          <a:uFillTx/>
                          <a:latin typeface="Arial"/>
                        </a:rPr>
                        <a:t>variant D </a:t>
                      </a:r>
                      <a:r>
                        <a:rPr b="0" lang="en-GB" sz="1600" spc="-1" strike="noStrike">
                          <a:solidFill>
                            <a:srgbClr val="005cad"/>
                          </a:solidFill>
                          <a:latin typeface="Arial"/>
                        </a:rPr>
                        <a:t>as the most preferr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5" name="Footer Placeholder 4"/>
          <p:cNvSpPr/>
          <p:nvPr/>
        </p:nvSpPr>
        <p:spPr>
          <a:xfrm>
            <a:off x="3132000" y="630864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4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57D68-2328-4557-878F-8E5CCA0A3CB3}"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Conclusion</a:t>
            </a:r>
            <a:endParaRPr b="0" lang="en-US" sz="2800" spc="-1" strike="noStrike">
              <a:solidFill>
                <a:srgbClr val="0066cc"/>
              </a:solidFill>
              <a:latin typeface="Times New Roman"/>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overage of the option should include all exempt financial services including insurance and how the option should apply to insuranc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ommission should engage on a further consideration on cross-border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Success of O2T would depend upon the treatment of margin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choice between mandatory or flexible application to individual transactions is critical, </a:t>
            </a:r>
            <a:r>
              <a:rPr b="0" lang="en-GB" sz="1800" spc="-1" strike="noStrike">
                <a:solidFill>
                  <a:srgbClr val="0066cc"/>
                </a:solidFill>
                <a:latin typeface="Arial"/>
              </a:rPr>
              <a:t>Any model involving mandatory application would discourage its take-up and, in addition, be politically sensitiv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llowing B2B be zero rated would simplify administration and solve the issue of banks having to reveal their gross profits</a:t>
            </a:r>
            <a:endParaRPr b="0" lang="en-US" sz="1800" spc="-1" strike="noStrike">
              <a:solidFill>
                <a:srgbClr val="0066cc"/>
              </a:solidFill>
              <a:latin typeface="Times New Roman"/>
            </a:endParaRPr>
          </a:p>
        </p:txBody>
      </p:sp>
      <p:sp>
        <p:nvSpPr>
          <p:cNvPr id="14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5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D6564-25B4-439A-B200-B883919F0145}"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5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98" name=""/>
          <p:cNvSpPr txBox="1"/>
          <p:nvPr/>
        </p:nvSpPr>
        <p:spPr>
          <a:xfrm>
            <a:off x="457200" y="1599840"/>
            <a:ext cx="8229600" cy="497196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VAT Directive generally exempts most financial services and insurance from VAT. In consequence, these industries do not charge tax on the services which they supply but they are unable to recover the VAT they pay </a:t>
            </a:r>
            <a:r>
              <a:rPr b="0" lang="en-US" sz="1600" spc="-1" strike="noStrike">
                <a:solidFill>
                  <a:srgbClr val="0066cc"/>
                </a:solidFill>
                <a:latin typeface="Arial"/>
              </a:rPr>
              <a:t>on the goods and services which they acquire to operate their businesses.</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mmission’s proposal </a:t>
            </a:r>
            <a:r>
              <a:rPr b="0" lang="en-US" sz="1600" spc="-1" strike="noStrike">
                <a:solidFill>
                  <a:srgbClr val="0066cc"/>
                </a:solidFill>
                <a:latin typeface="Arial"/>
              </a:rPr>
              <a:t>for modernizing the VAT rules applied in the banking and insurance sectors </a:t>
            </a:r>
            <a:r>
              <a:rPr b="0" lang="en-GB" sz="1600" spc="-1" strike="noStrike">
                <a:solidFill>
                  <a:srgbClr val="0066cc"/>
                </a:solidFill>
                <a:latin typeface="Arial"/>
                <a:ea typeface="Arial"/>
              </a:rPr>
              <a:t>(November 2007).</a:t>
            </a:r>
            <a:endParaRPr b="0" lang="en-US" sz="1600" spc="-1" strike="noStrike">
              <a:solidFill>
                <a:srgbClr val="0066cc"/>
              </a:solidFill>
              <a:latin typeface="Times New Roman"/>
            </a:endParaRPr>
          </a:p>
          <a:p>
            <a:pPr marL="343080" indent="-34308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proposal:</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Increasing legal certainty in the treatment of the financial sector and reducing interpretative anomalies on application of VAT exem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llow businesses to manage better the impact of non-deductible VAT on their activities</a:t>
            </a:r>
            <a:endParaRPr b="0" lang="en-US" sz="1600" spc="-1" strike="noStrike">
              <a:solidFill>
                <a:srgbClr val="0066cc"/>
              </a:solidFill>
              <a:latin typeface="Times New Roman"/>
            </a:endParaRPr>
          </a:p>
          <a:p>
            <a:pPr marL="343080" indent="-343080" algn="just">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gn="just">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Pillars of the proposal for the VAT reform:</a:t>
            </a:r>
            <a:endParaRPr b="0" lang="en-US" sz="18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finition of exempt service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st sharing agreement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cc"/>
                </a:solidFill>
                <a:latin typeface="Arial"/>
                <a:ea typeface="Arial"/>
              </a:rPr>
              <a:t>OPTION TO TAX</a:t>
            </a:r>
            <a:endParaRPr b="0" lang="en-US" sz="1600" spc="-1" strike="noStrike">
              <a:solidFill>
                <a:srgbClr val="0066cc"/>
              </a:solidFill>
              <a:latin typeface="Times New Roman"/>
            </a:endParaRPr>
          </a:p>
          <a:p>
            <a:pPr lvl="1" marL="743040" indent="-285840">
              <a:lnSpc>
                <a:spcPct val="100000"/>
              </a:lnSpc>
              <a:spcBef>
                <a:spcPts val="2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343080" indent="-343080">
              <a:lnSpc>
                <a:spcPct val="100000"/>
              </a:lnSpc>
              <a:spcBef>
                <a:spcPts val="2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p:txBody>
      </p:sp>
      <p:sp>
        <p:nvSpPr>
          <p:cNvPr id="9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023A3-0A03-4405-A0EF-5EDD3AFC287D}"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3" name=""/>
          <p:cNvSpPr txBox="1"/>
          <p:nvPr/>
        </p:nvSpPr>
        <p:spPr>
          <a:xfrm>
            <a:off x="457200" y="1599840"/>
            <a:ext cx="8229600" cy="490068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option to tax means to </a:t>
            </a:r>
            <a:r>
              <a:rPr b="0" lang="en-US" sz="1600" spc="-1" strike="noStrike">
                <a:solidFill>
                  <a:srgbClr val="0066cc"/>
                </a:solidFill>
                <a:latin typeface="Arial"/>
                <a:ea typeface="Arial"/>
              </a:rPr>
              <a:t>allow the banking and insurance companies to opt to tax their services if they wish</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Current system of the option to tax</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iscretion to use the option is given to Member States (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 uniform rules for implementation</a:t>
            </a:r>
            <a:endParaRPr b="0" lang="en-US" sz="1600" spc="-1" strike="noStrike">
              <a:solidFill>
                <a:srgbClr val="0066cc"/>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Resul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t widely used. Option to tax only in Austria, Belgium, Germany, France, Latvia and Estonia, each with different models in terms of scope and applica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Objectives of the Commission proposal for O2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Move the discretion from MS to the financial institution to create a level playing field for all these institutions in the European Un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If structured properly, it would reduce exposure of financial institutions to non-recoverable tax, improve competition and </a:t>
            </a:r>
            <a:r>
              <a:rPr b="0" lang="en-GB" sz="1600" spc="-1" strike="noStrike">
                <a:solidFill>
                  <a:srgbClr val="0066cc"/>
                </a:solidFill>
                <a:latin typeface="Arial"/>
                <a:ea typeface="Arial"/>
              </a:rPr>
              <a:t>remove/reduce the hidden cost of VAT leading to lower overall costs for the financial institu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0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AF0A0-BD65-44C5-8D2A-69A77A8BA9DD}"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8" name=""/>
          <p:cNvSpPr txBox="1"/>
          <p:nvPr/>
        </p:nvSpPr>
        <p:spPr>
          <a:xfrm>
            <a:off x="457200" y="1600200"/>
            <a:ext cx="8229600" cy="511488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a:t>
            </a:r>
            <a:r>
              <a:rPr b="0" lang="en-GB" sz="1800" spc="-1" strike="noStrike">
                <a:solidFill>
                  <a:srgbClr val="0066cc"/>
                </a:solidFill>
                <a:latin typeface="Arial"/>
                <a:ea typeface="Arial"/>
              </a:rPr>
              <a:t>The Proposal is silent on how O2T is to be applied’</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uropean Commission’s proposal has left a number of important questions </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unanswered:</a:t>
            </a:r>
            <a:endParaRPr b="0" lang="en-US" sz="18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the application of O2T would be on a transaction-by-transaction basis, mandatory for all transactions of a given category of transactions, or all categories once the option is taken?</a:t>
            </a:r>
            <a:endParaRPr b="0" lang="en-US" sz="1600" spc="-1" strike="noStrike">
              <a:solidFill>
                <a:srgbClr val="0066cc"/>
              </a:solidFill>
              <a:latin typeface="Times New Roman"/>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B2C should be included.</a:t>
            </a:r>
            <a:r>
              <a:rPr b="0" lang="en-US" sz="1600" spc="-1" strike="noStrike">
                <a:solidFill>
                  <a:srgbClr val="0066cc"/>
                </a:solidFill>
                <a:latin typeface="Arial"/>
                <a:ea typeface="Arial"/>
              </a:rPr>
              <a:t> If O2T includes B2C as well as B2B, it increases the tax burden on financial customers buying financial services</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termination of the correct tax base.</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How the option would apply to cross border transactions?</a:t>
            </a:r>
            <a:endParaRPr b="0" lang="en-US" sz="1600" spc="-1" strike="noStrike">
              <a:solidFill>
                <a:srgbClr val="0066cc"/>
              </a:solidFill>
              <a:latin typeface="Times New Roman"/>
            </a:endParaRPr>
          </a:p>
        </p:txBody>
      </p:sp>
      <p:sp>
        <p:nvSpPr>
          <p:cNvPr id="10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41B09-CAAB-4DE2-92E5-ECCBE8BEE10D}"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endParaRPr b="0" lang="en-US" sz="2800" spc="-1" strike="noStrike">
              <a:solidFill>
                <a:srgbClr val="0066cc"/>
              </a:solidFill>
              <a:latin typeface="Times New Roman"/>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BF and Ernst &amp; Young:</a:t>
            </a: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cc"/>
                </a:solidFill>
                <a:latin typeface="Arial"/>
                <a:ea typeface="Arial"/>
              </a:rPr>
              <a:t>‘</a:t>
            </a:r>
            <a:r>
              <a:rPr b="1" lang="en-GB" sz="1800" spc="-1" strike="noStrike">
                <a:solidFill>
                  <a:srgbClr val="0066cc"/>
                </a:solidFill>
                <a:latin typeface="Arial"/>
                <a:ea typeface="Arial"/>
              </a:rPr>
              <a:t>Design and Impact of the Option to Tax System for Application of VAT to Financial Servic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Study:</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xplore current O2T syste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nalysis of the possible model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dvice on the model for taxa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ssessment of impact of O2T addressing all open question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2C757-5620-4820-A555-8F0B44F80BA9}"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urrent O2T systems</a:t>
            </a:r>
            <a:endParaRPr b="0" lang="en-US" sz="2800" spc="-1" strike="noStrike">
              <a:solidFill>
                <a:srgbClr val="0066cc"/>
              </a:solidFill>
              <a:latin typeface="Times New Roman"/>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urrent O2T systems:</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Belgium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France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Germany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ustria (1995)</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Lithuania (2004)</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stonia</a:t>
            </a: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spects considered:</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Scope of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Requirements to apply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axable base</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reatment of cross-border transaction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Practical aspect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20A77-1603-4218-BF59-7AE2D83071F9}"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2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Matrix comparison</a:t>
            </a:r>
            <a:endParaRPr b="0" lang="en-US" sz="2800" spc="-1" strike="noStrike">
              <a:solidFill>
                <a:srgbClr val="0066cc"/>
              </a:solidFill>
              <a:latin typeface="Times New Roman"/>
            </a:endParaRPr>
          </a:p>
        </p:txBody>
      </p:sp>
      <p:graphicFrame>
        <p:nvGraphicFramePr>
          <p:cNvPr id="123" name=""/>
          <p:cNvGraphicFramePr/>
          <p:nvPr/>
        </p:nvGraphicFramePr>
        <p:xfrm>
          <a:off x="457200" y="1587600"/>
          <a:ext cx="8186760" cy="4832280"/>
        </p:xfrm>
        <a:graphic>
          <a:graphicData uri="http://schemas.openxmlformats.org/drawingml/2006/table">
            <a:tbl>
              <a:tblPr/>
              <a:tblGrid>
                <a:gridCol w="1114560"/>
                <a:gridCol w="2428920"/>
                <a:gridCol w="4643280"/>
              </a:tblGrid>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untr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cope</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equiremen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Austr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95)</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Granting of credit by retaile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for B2B &amp; B2C</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transaction-by-transaction basi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Belgium</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Payment and receipts processing only</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ir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Estoni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All transactions covered by exemption of EU VAT Dir.</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to categories of transactions, B2B &amp; B2C</a:t>
                      </a:r>
                      <a:endParaRPr b="0" lang="en-US" sz="1400" spc="-1" strike="noStrike">
                        <a:solidFill>
                          <a:srgbClr val="005cad"/>
                        </a:solidFill>
                        <a:latin typeface="Arial"/>
                      </a:endParaRPr>
                    </a:p>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81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ance</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certain financial transactions (no loans and foreign exchang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5 years</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Germany</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tion allowed on transaction-by-transacti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n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77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Lithuan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2004)</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application to categories of transaction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12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5" name="Footer Placeholder 4"/>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2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90ABB-C24C-4BB3-9A63-1D060C45FDEB}"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400"/>
            </a:br>
            <a:r>
              <a:rPr b="0" lang="en-US" sz="2800" spc="-1" strike="noStrike">
                <a:solidFill>
                  <a:srgbClr val="0066cc"/>
                </a:solidFill>
                <a:latin typeface="Arial"/>
                <a:ea typeface="Arial"/>
              </a:rPr>
              <a:t>Current O2T Systems – assessment</a:t>
            </a:r>
            <a:endParaRPr b="0" lang="en-US" sz="2800" spc="-1" strike="noStrike">
              <a:solidFill>
                <a:srgbClr val="0066cc"/>
              </a:solidFill>
              <a:latin typeface="Times New Roman"/>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common scope of O2T is needed in order to reach a consistent application (also in cross-border situations)</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evocability essential for a workable system for O2T</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None of the current EU systems define the tax base for margin transactions. Without a proper definition of the tax base for margin transactions, O2T would not be effective</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on a transaction-by-transaction basis seems the only viable option if base defined to be gross interest, instead of the margin</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lot of confusion in the application of O2T to international transaction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2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ED25B-305D-4FDD-9B4D-8FFD49B86E99}"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European Commission guidelines</a:t>
            </a:r>
            <a:endParaRPr b="0" lang="en-US" sz="2800" spc="-1" strike="noStrike">
              <a:solidFill>
                <a:srgbClr val="0066cc"/>
              </a:solidFill>
              <a:latin typeface="Times New Roman"/>
            </a:endParaRPr>
          </a:p>
        </p:txBody>
      </p:sp>
      <p:sp>
        <p:nvSpPr>
          <p:cNvPr id="133" name=""/>
          <p:cNvSpPr txBox="1"/>
          <p:nvPr/>
        </p:nvSpPr>
        <p:spPr>
          <a:xfrm>
            <a:off x="457200" y="1600200"/>
            <a:ext cx="8229600" cy="4525920"/>
          </a:xfrm>
          <a:prstGeom prst="rect">
            <a:avLst/>
          </a:prstGeom>
          <a:noFill/>
          <a:ln w="0">
            <a:noFill/>
          </a:ln>
        </p:spPr>
        <p:txBody>
          <a:bodyPr anchor="t">
            <a:normAutofit/>
          </a:bodyPr>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odalities of O2T:</a:t>
            </a:r>
            <a:endParaRPr b="0" lang="en-US" sz="18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ight to exercise O2T to be with the supplier and available in all M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to be simple to apply and not create higher avoidance or frau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ption to be irrevocable or binding for a minimum perio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exercise of the option should lead to a situation where the entire business activities of the financial institutions become taxabl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Uniform application on both domestic and cross border transaction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Cross-border supplies under O2T subject to reverse charg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marL="228600" indent="-2286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3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9017F-3725-458E-8942-6FCEA77E4BE4}"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11:10:42Z</dcterms:created>
  <dc:creator>Francisco Saravia</dc:creator>
  <dc:description/>
  <dc:language>en-US</dc:language>
  <cp:lastModifiedBy>Francisco Saravia</cp:lastModifiedBy>
  <dcterms:modified xsi:type="dcterms:W3CDTF">2009-12-07T14:15:49Z</dcterms:modified>
  <cp:revision>273</cp:revision>
  <dc:subject/>
  <dc:title>VAT and financial services</dc:title>
</cp:coreProperties>
</file>